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379-8573-4C07-BD73-3D6B6C5F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7B0-1F66-431E-8D62-202BA799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266-224B-46B6-B1F9-9EB5B727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35E-79D3-4594-8202-5896C7EC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6D94-8DED-4DBD-BE07-0B068E64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5D2B-14AF-41A5-946B-5CE6E2B5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AB12-94E0-44BF-91A0-3229918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82CF-960C-4DB4-A402-9EB7D70F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BAFA-B28A-41DC-B191-A9CC71F8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8B04-33B9-457B-9BB7-33849575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959F-260E-47F8-9567-BCF45941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7F8-86B8-4586-A177-839E8211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BFCC-7E22-4CD6-A233-9BEBF7FB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371D-935D-4821-A170-887857CC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C703-7BAB-449E-9EFC-20D784F7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639D-F9BC-48D8-AF96-AD65AA02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D905-AB62-4A3C-ABAA-5AD5BC6C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E68-69B1-4737-9FBA-6BAB98DF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8F2-4FE6-4592-956B-C364F09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3E6-15BC-4C59-8AEC-7A707D09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EF1-331A-4EC4-974D-6E36E1B5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8BB-B1E7-47A1-BB4D-56F4EA23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D85-5A88-4065-9FBD-9186EDA4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DB8-FC9B-460E-9823-57744108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A473-03CE-4696-A9A7-74D2CA05FF32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A39D-A80A-485F-8E93-D75D1319B065}" type="slidenum">
              <a:rPr b="0" lang="lt-L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200" spc="-1" strike="noStrike">
                <a:solidFill>
                  <a:srgbClr val="330033"/>
                </a:solidFill>
                <a:latin typeface="Tahoma"/>
              </a:rPr>
              <a:t>ASMENYBĖS TEORIJOS</a:t>
            </a:r>
            <a:endParaRPr b="0" lang="en-US" sz="4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78040" y="3781440"/>
            <a:ext cx="604512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enkavertiškumo jausmas, komplek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Organų menkavertišku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erdėta glo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tstūmim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ašumo sie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yvenimo stil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dominavimo gyvenimo stili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gavimo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veng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200" spc="-1" strike="noStrike">
                <a:solidFill>
                  <a:srgbClr val="000000"/>
                </a:solidFill>
                <a:latin typeface="Arial"/>
              </a:rPr>
              <a:t>socialiai naudingas gyvenimo stil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INDIVIDUALIOJI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ADLER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ocialinis inte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Gimimo eilišku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irm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tras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Jauniausia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enintelis vaik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BIHEVIORISTINĖS ASMENYBĖS TEORIJO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I.Pavlovas: klasikinis sąlygoj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Oprantinio elgesio teorija (B.F.Skinner): operantinis sąlygojimas, pastiprinimo sc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ROGERS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ganizmas ir bazinė tendencija aktualizu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tyrimų (fenomenų) lau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š ir Aš suvo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eigiamo vertinimo poreikis ir sąlygini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esąlyginis teigiamas 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HUMANISTINĖS PSICHOLOGIJOS ASMENYBĖS TEORIJOS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MASLOW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oreikių hierarch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5.Saviaktualizacijo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4.Poreikis pagarb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3.Poreikis priklausyti ir meilės poreik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2.Saugumo poreik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1.Fiziologiniai poreiki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SOCIALINIO MOKYMOSI TEOR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.BANDUR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odeliavimas: modelio charakteristikos, stebėtojo charakteristikos, su elgesiu susiję paskatin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Dėmesys, įsiminimas, atgaminimas, paska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ęs pastip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avo efektyvumo ver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60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330033"/>
                </a:solidFill>
                <a:latin typeface="Tahoma"/>
              </a:rPr>
              <a:t>Z.Froidas: asmenybės struktūra</a:t>
            </a:r>
            <a:endParaRPr b="0" lang="en-US" sz="3600" spc="-1" strike="noStrike">
              <a:solidFill>
                <a:srgbClr val="330033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6000" y="1988640"/>
            <a:ext cx="5832360" cy="3745440"/>
            <a:chOff x="1476000" y="1988640"/>
            <a:chExt cx="5832360" cy="3745440"/>
          </a:xfrm>
        </p:grpSpPr>
        <p:sp>
          <p:nvSpPr>
            <p:cNvPr id="102" name=""/>
            <p:cNvSpPr/>
            <p:nvPr/>
          </p:nvSpPr>
          <p:spPr>
            <a:xfrm rot="10800000">
              <a:off x="1476000" y="1988280"/>
              <a:ext cx="5832360" cy="3745080"/>
            </a:xfrm>
            <a:custGeom>
              <a:avLst/>
              <a:gdLst>
                <a:gd name="textAreaLeft" fmla="*/ 1282320 w 5832360"/>
                <a:gd name="textAreaRight" fmla="*/ 4550040 w 5832360"/>
                <a:gd name="textAreaTop" fmla="*/ 823320 h 3745080"/>
                <a:gd name="textAreaBottom" fmla="*/ 2921760 h 374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9760" y="2702160"/>
              <a:ext cx="36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4400" y="3593880"/>
              <a:ext cx="425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2440" y="2167200"/>
              <a:ext cx="126072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52440" y="2880360"/>
              <a:ext cx="1891440" cy="53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rieš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37080" y="3772080"/>
              <a:ext cx="22068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lt-LT" sz="2000" spc="-1" strike="noStrike">
                  <a:solidFill>
                    <a:srgbClr val="000000"/>
                  </a:solidFill>
                  <a:latin typeface="Tahoma"/>
                </a:rPr>
                <a:t>Pasąmonė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209760" y="1989000"/>
              <a:ext cx="1103400" cy="374508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3160" y="4128840"/>
              <a:ext cx="2994840" cy="0"/>
            </a:xfrm>
            <a:prstGeom prst="line">
              <a:avLst/>
            </a:prstGeom>
            <a:ln w="284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28880" y="2880360"/>
              <a:ext cx="1418400" cy="7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71200" y="4489200"/>
              <a:ext cx="1733760" cy="89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03480" y="3950640"/>
              <a:ext cx="1418400" cy="12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800080"/>
                  </a:solidFill>
                  <a:latin typeface="Tahoma"/>
                </a:rPr>
                <a:t>EG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id, Ego,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Id: malonumo principas, refleksyvūs veiksmai, pirm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Ego (Aš): realybės principas, antriniai psichiniai procesa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uperego: introjekcijos mechaniz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FROIDO PSIHOANALITINĖ ASMENYBĖS TEORIJA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Ego gynybiniai mechaniz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šstūm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ojek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akcijos formav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Fiks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Regres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Identifika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akeitimai (pvz., sublimacij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smenybės raidos stadijos pagal </a:t>
            </a:r>
            <a:br>
              <a:rPr sz="3200"/>
            </a:br>
            <a:r>
              <a:rPr b="0" lang="en-GB" sz="3200" spc="-1" strike="noStrike">
                <a:solidFill>
                  <a:srgbClr val="330033"/>
                </a:solidFill>
                <a:latin typeface="Tahoma"/>
              </a:rPr>
              <a:t>Z. </a:t>
            </a: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Froidą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Vystymosi stadij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Oralinė (nuo gimimo iki 18 mėn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alinė (18 mėn. – 3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Falinė (3-6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Arial"/>
              </a:rPr>
              <a:t>Edipo, Elektros kompleksa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Latentinė (6-12 m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Genitalinė (ėmus lytiškai bręst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041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struktūra: Ego, individuali pasąmonė, kolektyvinė pasąmo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lektyvinė pasąmonė: archetip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Anima ir Ani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Šešėl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Savas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ANALITINĖ (gelmių) PSICHOLOGIJA</a:t>
            </a:r>
            <a:br>
              <a:rPr sz="3200"/>
            </a:br>
            <a:r>
              <a:rPr b="0" lang="lt-LT" sz="3200" spc="-1" strike="noStrike">
                <a:solidFill>
                  <a:srgbClr val="330033"/>
                </a:solidFill>
                <a:latin typeface="Tahoma"/>
              </a:rPr>
              <a:t>C.G. JUNG </a:t>
            </a:r>
            <a:endParaRPr b="0" lang="en-US" sz="3200" spc="-1" strike="noStrike">
              <a:solidFill>
                <a:srgbClr val="33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straversija ir intrav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Mąstymas, jausmai, pojūčiai ir intui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Asmenybės vystym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aikystė ir jaunyst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Arial"/>
              </a:rPr>
              <a:t>Vidutinis amžius ir senatv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2:59:09Z</dcterms:created>
  <dc:creator>TADAS</dc:creator>
  <dc:description/>
  <dc:language>en-US</dc:language>
  <cp:lastModifiedBy> </cp:lastModifiedBy>
  <dcterms:modified xsi:type="dcterms:W3CDTF">2007-11-06T14:30:22Z</dcterms:modified>
  <cp:revision>17</cp:revision>
  <dc:subject/>
  <dc:title>INDIVIDAS IR ASMENYBĖ</dc:title>
</cp:coreProperties>
</file>